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70A-47AE-47BB-B0B5-86C0DCE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139-0233-438D-8C0E-D6D66386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CF2-03C9-4B86-8067-FDEEBABD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834-E360-46C5-AD7E-BC927FAD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D400-C84E-4DBC-A8D3-0AFD4B9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02D-1FA2-43AE-B586-21806CD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B240-3BFA-4283-9F2A-50F6C294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E651-F484-41D6-B74F-7CFF06E4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7F4-DA1F-4AD4-AE23-4A659DC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A7FA-B737-462E-96DB-F61E803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8D4D-C119-40A4-9F0B-E42DEA8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7C3-5252-41C3-BFB8-8A998198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808-13E9-4A25-93CF-C78187E6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747-5AF7-4A31-8B0D-4201ED3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39B-DCB1-4EA8-9C48-2A6F5C9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E1C8-6DFF-401A-A07A-36681ADD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29AD-99E1-4B9F-AB0C-53CBE4A5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B62-9B0E-414F-97E4-BE10C4D6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430-4662-4431-82ED-DD55612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FD5-F226-4D5F-82D6-6DF32B5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AAF-CB64-4773-96FA-027C1A7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34C-7EB9-4ADC-B186-139E78D0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487-A8D1-4535-9519-6BE82B4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1A1-EDD7-4529-9E08-F99472AD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743-80AC-4212-A305-D0D8D5E5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9B2-73FB-4391-BC29-8C55846B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1204-7380-4CA4-A9B0-7CBB0143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.8.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209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pecial Right Tri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DC76-0CE3-42A0-8E7D-7DBFB66C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°-45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-45°-9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ypotenuse is        times as long as a l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7"/>
          <p:cNvGraphicFramePr/>
          <p:nvPr/>
        </p:nvGraphicFramePr>
        <p:xfrm>
          <a:off x="7315200" y="3733920"/>
          <a:ext cx="3808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380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248520" y="1905120"/>
          <a:ext cx="4572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457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6"/>
          <p:cNvSpPr/>
          <p:nvPr/>
        </p:nvSpPr>
        <p:spPr>
          <a:xfrm>
            <a:off x="1523880" y="3200400"/>
            <a:ext cx="289584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523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9810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9"/>
          <p:cNvSpPr/>
          <p:nvPr/>
        </p:nvSpPr>
        <p:spPr>
          <a:xfrm rot="7218600">
            <a:off x="1149120" y="312732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1"/>
          <p:cNvSpPr/>
          <p:nvPr/>
        </p:nvSpPr>
        <p:spPr>
          <a:xfrm rot="16510200">
            <a:off x="4241880" y="4901400"/>
            <a:ext cx="477720" cy="1341720"/>
          </a:xfrm>
          <a:custGeom>
            <a:avLst/>
            <a:gdLst>
              <a:gd name="textAreaLeft" fmla="*/ 0 w 477720"/>
              <a:gd name="textAreaRight" fmla="*/ 478080 w 47772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76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0040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8954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352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9907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 flipV="1">
            <a:off x="2743200" y="5788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85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198108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9436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6019920" y="3200400"/>
            <a:ext cx="2209680" cy="182880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60199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6477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0199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3915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334120" y="4038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6781680" y="5029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71629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7"/>
          <p:cNvGraphicFramePr/>
          <p:nvPr/>
        </p:nvGraphicFramePr>
        <p:xfrm>
          <a:off x="3657600" y="4419720"/>
          <a:ext cx="4572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419720"/>
                    <a:ext cx="457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B15-07F6-48BE-AEF4-84098515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960" y="-22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 Black"/>
              </a:rPr>
              <a:t>30°-60°-90° Special Right Triangle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°-60°-90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, the hypotenuse  is twice as long as the short leg, and the long leg is        times as long as the shorter l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057400" y="2133720"/>
            <a:ext cx="1905120" cy="38862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057400" y="5562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146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004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057400" y="299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219320" y="4648320"/>
            <a:ext cx="968040" cy="459720"/>
            <a:chOff x="1219320" y="4648320"/>
            <a:chExt cx="968040" cy="459720"/>
          </a:xfrm>
        </p:grpSpPr>
        <p:graphicFrame>
          <p:nvGraphicFramePr>
            <p:cNvPr id="141" name="Object 13"/>
            <p:cNvGraphicFramePr/>
            <p:nvPr/>
          </p:nvGraphicFramePr>
          <p:xfrm>
            <a:off x="1560240" y="4705200"/>
            <a:ext cx="627120" cy="32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0240" y="4705200"/>
                      <a:ext cx="627120" cy="3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4"/>
            <p:cNvSpPr/>
            <p:nvPr/>
          </p:nvSpPr>
          <p:spPr>
            <a:xfrm>
              <a:off x="1219320" y="4648320"/>
              <a:ext cx="5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33526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4382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8"/>
          <p:cNvGraphicFramePr/>
          <p:nvPr/>
        </p:nvGraphicFramePr>
        <p:xfrm>
          <a:off x="3448080" y="1257480"/>
          <a:ext cx="49536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1257480"/>
                    <a:ext cx="495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9"/>
          <p:cNvSpPr/>
          <p:nvPr/>
        </p:nvSpPr>
        <p:spPr>
          <a:xfrm>
            <a:off x="2895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0"/>
          <p:cNvGraphicFramePr/>
          <p:nvPr/>
        </p:nvGraphicFramePr>
        <p:xfrm>
          <a:off x="5180040" y="4556160"/>
          <a:ext cx="3067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0040" y="4556160"/>
                    <a:ext cx="3067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5502240" y="3930480"/>
          <a:ext cx="263700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930480"/>
                    <a:ext cx="2637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067-DCA0-4728-BF52-1259BB7B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°-60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-60°-90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hypotenuse  is twice as long as the shorter leg, and the longer leg is        times as long as the shorter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057400" y="3200400"/>
            <a:ext cx="175248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057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514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0"/>
          <p:cNvSpPr/>
          <p:nvPr/>
        </p:nvSpPr>
        <p:spPr>
          <a:xfrm rot="7218600">
            <a:off x="1734120" y="3209040"/>
            <a:ext cx="403200" cy="928800"/>
          </a:xfrm>
          <a:custGeom>
            <a:avLst/>
            <a:gdLst>
              <a:gd name="textAreaLeft" fmla="*/ 0 w 403200"/>
              <a:gd name="textAreaRight" fmla="*/ 403560 w 403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12"/>
          <p:cNvSpPr/>
          <p:nvPr/>
        </p:nvSpPr>
        <p:spPr>
          <a:xfrm rot="16510200">
            <a:off x="3724200" y="4749120"/>
            <a:ext cx="477720" cy="1392480"/>
          </a:xfrm>
          <a:custGeom>
            <a:avLst/>
            <a:gdLst>
              <a:gd name="textAreaLeft" fmla="*/ 0 w 477720"/>
              <a:gd name="textAreaRight" fmla="*/ 478080 w 47772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3040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57560" y="530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1295280" y="4648320"/>
            <a:ext cx="704880" cy="476280"/>
            <a:chOff x="1295280" y="4648320"/>
            <a:chExt cx="704880" cy="476280"/>
          </a:xfrm>
        </p:grpSpPr>
        <p:graphicFrame>
          <p:nvGraphicFramePr>
            <p:cNvPr id="169" name="Object 33"/>
            <p:cNvGraphicFramePr/>
            <p:nvPr/>
          </p:nvGraphicFramePr>
          <p:xfrm>
            <a:off x="1600200" y="4724640"/>
            <a:ext cx="399960" cy="3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724640"/>
                      <a:ext cx="3999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Text Box 16"/>
            <p:cNvSpPr/>
            <p:nvPr/>
          </p:nvSpPr>
          <p:spPr>
            <a:xfrm>
              <a:off x="1295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7"/>
          <p:cNvSpPr/>
          <p:nvPr/>
        </p:nvSpPr>
        <p:spPr>
          <a:xfrm>
            <a:off x="2971800" y="3976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 flipV="1">
            <a:off x="2705040" y="5723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332080" y="60357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43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/>
          <p:cNvSpPr/>
          <p:nvPr/>
        </p:nvSpPr>
        <p:spPr>
          <a:xfrm>
            <a:off x="6172200" y="4038480"/>
            <a:ext cx="1409760" cy="181476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617220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6629400" y="5486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10236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89616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086600" y="4479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67057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31"/>
          <p:cNvGraphicFramePr/>
          <p:nvPr/>
        </p:nvGraphicFramePr>
        <p:xfrm>
          <a:off x="7086600" y="2286000"/>
          <a:ext cx="495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286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35"/>
          <p:cNvSpPr/>
          <p:nvPr/>
        </p:nvSpPr>
        <p:spPr>
          <a:xfrm>
            <a:off x="2438280" y="4267080"/>
            <a:ext cx="83844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 flipV="1">
            <a:off x="2133720" y="4648320"/>
            <a:ext cx="1218960" cy="6537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2514600" y="449532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4"/>
          <p:cNvGrpSpPr/>
          <p:nvPr/>
        </p:nvGrpSpPr>
        <p:grpSpPr>
          <a:xfrm>
            <a:off x="5181480" y="4724280"/>
            <a:ext cx="1143000" cy="398880"/>
            <a:chOff x="5181480" y="4724280"/>
            <a:chExt cx="1143000" cy="398880"/>
          </a:xfrm>
        </p:grpSpPr>
        <p:sp>
          <p:nvSpPr>
            <p:cNvPr id="190" name="Text Box 29"/>
            <p:cNvSpPr/>
            <p:nvPr/>
          </p:nvSpPr>
          <p:spPr>
            <a:xfrm>
              <a:off x="5181480" y="472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    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39"/>
            <p:cNvGraphicFramePr/>
            <p:nvPr/>
          </p:nvGraphicFramePr>
          <p:xfrm>
            <a:off x="5410080" y="4724280"/>
            <a:ext cx="38088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472428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496-9A18-4745-9FAC-19160C8F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-60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30°-60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9343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334120" y="2752560"/>
          <a:ext cx="609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75256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Oval 30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5257800" y="2743200"/>
            <a:ext cx="838080" cy="5335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39"/>
          <p:cNvCxnSpPr>
            <a:stCxn id="221" idx="6"/>
            <a:endCxn id="220" idx="3"/>
          </p:cNvCxnSpPr>
          <p:nvPr/>
        </p:nvCxnSpPr>
        <p:spPr>
          <a:xfrm flipV="1">
            <a:off x="3290760" y="3212280"/>
            <a:ext cx="2090160" cy="82620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3" name="Oval 4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1"/>
          <p:cNvSpPr/>
          <p:nvPr/>
        </p:nvSpPr>
        <p:spPr>
          <a:xfrm>
            <a:off x="6781680" y="243828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42"/>
          <p:cNvCxnSpPr>
            <a:stCxn id="223" idx="6"/>
            <a:endCxn id="224" idx="2"/>
          </p:cNvCxnSpPr>
          <p:nvPr/>
        </p:nvCxnSpPr>
        <p:spPr>
          <a:xfrm flipV="1">
            <a:off x="3900600" y="2666520"/>
            <a:ext cx="2867760" cy="153360"/>
          </a:xfrm>
          <a:prstGeom prst="bentConnector3">
            <a:avLst>
              <a:gd name="adj1" fmla="val 49993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26" name="Text Box 47"/>
          <p:cNvSpPr/>
          <p:nvPr/>
        </p:nvSpPr>
        <p:spPr>
          <a:xfrm>
            <a:off x="228600" y="3657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  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8"/>
          <p:cNvSpPr/>
          <p:nvPr/>
        </p:nvSpPr>
        <p:spPr>
          <a:xfrm>
            <a:off x="228600" y="3429000"/>
            <a:ext cx="1523880" cy="838080"/>
          </a:xfrm>
          <a:prstGeom prst="wedgeRoundRectCallout">
            <a:avLst>
              <a:gd name="adj1" fmla="val 118333"/>
              <a:gd name="adj2" fmla="val 4071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9625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14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50"/>
          <p:cNvCxnSpPr>
            <a:stCxn id="219" idx="7"/>
            <a:endCxn id="218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30" name="AutoShape 52"/>
          <p:cNvSpPr/>
          <p:nvPr/>
        </p:nvSpPr>
        <p:spPr>
          <a:xfrm>
            <a:off x="3886200" y="1828800"/>
            <a:ext cx="1447920" cy="533520"/>
          </a:xfrm>
          <a:prstGeom prst="wedgeRoundRectCallout">
            <a:avLst>
              <a:gd name="adj1" fmla="val -58550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54"/>
          <p:cNvGraphicFramePr/>
          <p:nvPr/>
        </p:nvGraphicFramePr>
        <p:xfrm>
          <a:off x="685800" y="3657600"/>
          <a:ext cx="53352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533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60"/>
          <p:cNvGrpSpPr/>
          <p:nvPr/>
        </p:nvGrpSpPr>
        <p:grpSpPr>
          <a:xfrm>
            <a:off x="1752480" y="5562720"/>
            <a:ext cx="7162920" cy="398880"/>
            <a:chOff x="1752480" y="5562720"/>
            <a:chExt cx="7162920" cy="398880"/>
          </a:xfrm>
        </p:grpSpPr>
        <p:sp>
          <p:nvSpPr>
            <p:cNvPr id="235" name="Text Box 43"/>
            <p:cNvSpPr/>
            <p:nvPr/>
          </p:nvSpPr>
          <p:spPr>
            <a:xfrm>
              <a:off x="1752480" y="5562720"/>
              <a:ext cx="71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Step 4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pattern, we know tha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= 7 , b = 2x, and a = x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Object 57"/>
            <p:cNvGraphicFramePr/>
            <p:nvPr/>
          </p:nvGraphicFramePr>
          <p:xfrm>
            <a:off x="8381880" y="5562720"/>
            <a:ext cx="3812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5562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9EE-ED24-4266-B24D-E9845D0D4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1" name="Object 42"/>
          <p:cNvGraphicFramePr/>
          <p:nvPr/>
        </p:nvGraphicFramePr>
        <p:xfrm>
          <a:off x="2527200" y="2768760"/>
          <a:ext cx="24156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2768760"/>
                    <a:ext cx="24156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-45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45°-45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486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69343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5410080" y="2819520"/>
            <a:ext cx="68580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29"/>
          <p:cNvCxnSpPr>
            <a:stCxn id="267" idx="6"/>
            <a:endCxn id="266" idx="3"/>
          </p:cNvCxnSpPr>
          <p:nvPr/>
        </p:nvCxnSpPr>
        <p:spPr>
          <a:xfrm flipV="1">
            <a:off x="3290400" y="3223800"/>
            <a:ext cx="2220120" cy="81504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69" name="Oval 3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6858000" y="251460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2"/>
          <p:cNvCxnSpPr>
            <a:stCxn id="269" idx="6"/>
            <a:endCxn id="270" idx="2"/>
          </p:cNvCxnSpPr>
          <p:nvPr/>
        </p:nvCxnSpPr>
        <p:spPr>
          <a:xfrm flipV="1">
            <a:off x="3900240" y="2743200"/>
            <a:ext cx="2943720" cy="76680"/>
          </a:xfrm>
          <a:prstGeom prst="bentConnector3">
            <a:avLst>
              <a:gd name="adj1" fmla="val 50000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72" name="Text Box 33"/>
          <p:cNvSpPr/>
          <p:nvPr/>
        </p:nvSpPr>
        <p:spPr>
          <a:xfrm>
            <a:off x="1752480" y="5562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attern, we kn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= 7 , a = x, and b = x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09480" y="3733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7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6"/>
          <p:cNvSpPr/>
          <p:nvPr/>
        </p:nvSpPr>
        <p:spPr>
          <a:xfrm>
            <a:off x="609480" y="3505320"/>
            <a:ext cx="1143000" cy="761760"/>
          </a:xfrm>
          <a:prstGeom prst="wedgeRoundRectCallout">
            <a:avLst>
              <a:gd name="adj1" fmla="val 141111"/>
              <a:gd name="adj2" fmla="val 39791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4114800" y="1905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7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8"/>
          <p:cNvCxnSpPr>
            <a:stCxn id="265" idx="7"/>
            <a:endCxn id="264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77" name="AutoShape 39"/>
          <p:cNvSpPr/>
          <p:nvPr/>
        </p:nvSpPr>
        <p:spPr>
          <a:xfrm>
            <a:off x="3886200" y="1828800"/>
            <a:ext cx="1676520" cy="533520"/>
          </a:xfrm>
          <a:prstGeom prst="wedgeRoundRectCallout">
            <a:avLst>
              <a:gd name="adj1" fmla="val -57384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6"/>
          <p:cNvGraphicFramePr/>
          <p:nvPr/>
        </p:nvGraphicFramePr>
        <p:xfrm>
          <a:off x="7086600" y="2514600"/>
          <a:ext cx="457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5146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8"/>
          <p:cNvGraphicFramePr/>
          <p:nvPr/>
        </p:nvGraphicFramePr>
        <p:xfrm>
          <a:off x="8229600" y="5533920"/>
          <a:ext cx="45720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53392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9"/>
          <p:cNvGraphicFramePr/>
          <p:nvPr/>
        </p:nvGraphicFramePr>
        <p:xfrm>
          <a:off x="4724280" y="1828800"/>
          <a:ext cx="4572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18288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2:59:07Z</dcterms:created>
  <dc:creator>Authorized User</dc:creator>
  <dc:description/>
  <dc:language>en-US</dc:language>
  <cp:lastModifiedBy>Cynthia H. Morgan</cp:lastModifiedBy>
  <dcterms:modified xsi:type="dcterms:W3CDTF">2014-02-03T21:41:25Z</dcterms:modified>
  <cp:revision>34</cp:revision>
  <dc:subject/>
  <dc:title>Lesson 7-3</dc:title>
</cp:coreProperties>
</file>